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1D0-271D-4431-A44B-21E474B2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B92-D2E9-4187-84B6-FF0D106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462-379D-4A06-BC51-401AFF92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8DC-1227-499C-A2AE-9D548D37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5AF-21C9-4205-944E-60923527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55A-248C-405B-B292-E340FC0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1FB-6C94-478C-87F4-DCD8EAE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B9F-9D30-4E1A-A97E-DDC712B2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D10-58B9-4399-9510-AF754ADA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541-F227-45F1-9876-A095D9F8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D4A-8968-48F5-9D8B-697C23E9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69F-B7C9-424A-8925-28DEADB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4D98-C751-4ED3-A6DD-26F782BC1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&amp;A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 &amp;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3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blic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blic inheri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ltiple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ers to the base class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-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rtual functions (polymorphi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1:25:37Z</dcterms:created>
  <dc:creator>Antonio Maiorano</dc:creator>
  <dc:description/>
  <dc:language>en-US</dc:language>
  <cp:lastModifiedBy>Tony</cp:lastModifiedBy>
  <dcterms:modified xsi:type="dcterms:W3CDTF">2003-08-23T18:07:31Z</dcterms:modified>
  <cp:revision>38</cp:revision>
  <dc:subject/>
  <dc:title>C/C++ Tutorial</dc:title>
</cp:coreProperties>
</file>